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B06-AFC7-4E1D-BFF2-B0949E37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D0C-E8C3-43F0-8731-CFBF8CE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2C9-E53D-4D42-8F15-7E0E229F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623-B9E8-4D88-B704-54C2CCD1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D68-FEB9-4749-A63B-726B2312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6A8-E57A-438F-91E6-DD26F52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510-8522-49EB-A17A-BB6EBCE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BE1-EE1E-4EE1-A9B1-CB4EE13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BDA-63C6-4624-8545-33118A2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893-74BB-40C7-AD8B-FF42684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55-8190-43A6-9D8F-D86A4F5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9B4-2994-4163-BCA6-88ACA4D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6A7-A5FA-4792-9CAC-1FE774590F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6868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起的句子或分句（在肯定句后），说某人、某事与刚才提到的相同，这时也用倒装语序。如有助动词或情态动词，把它放在主语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 can dance beautifully,    and_______________________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姐姐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ock music. _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a headache.       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124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can he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do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hav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2:09:20Z</dcterms:created>
  <dc:creator>user</dc:creator>
  <dc:description/>
  <dc:language>en-US</dc:language>
  <cp:lastModifiedBy>zhangjunguang</cp:lastModifiedBy>
  <dcterms:modified xsi:type="dcterms:W3CDTF">2003-08-06T06:12:36Z</dcterms:modified>
  <cp:revision>8</cp:revision>
  <dc:subject/>
  <dc:title>PowerPoint 演示文稿</dc:title>
</cp:coreProperties>
</file>